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761D-FB50-4CD9-B145-BCC857C916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C2190-2EE5-4C50-9B21-0157A2F08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04464-F69C-446D-A7E1-67997E7E2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FAA8-9006-4129-B2EE-17C3CFFC2C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2E89E-9D26-4A6A-9C4D-21DF12BC0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EE20F-6316-4A13-AC7D-E77175585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E154-3360-4425-AC28-6B4DCD643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AF508-49A3-438F-AE32-B945D0A69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BD462-19EC-409D-94FD-C1F530C957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16E3-97B7-4371-8A57-248E201E8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CC2E-135B-4FCC-B5F9-D7A37460B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C7A7D-3867-4968-81A7-029A99D3D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3D3C5-D570-450C-8588-BF905692FCE5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3.wmf"/><Relationship Id="rId19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wmf"/><Relationship Id="rId1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24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37600" y="189000"/>
            <a:ext cx="52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Times New Roman"/>
              </a:rPr>
              <a:t>Ta(5): (FeCo 1 nm, x=0.3): MgO(7)/Ta(1): Ru(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395280" y="1125360"/>
          <a:ext cx="2465280" cy="18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1125360"/>
                    <a:ext cx="246528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971640" y="836640"/>
            <a:ext cx="94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ud R</a:t>
            </a:r>
            <a:r>
              <a:rPr b="1" lang="en-AU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</a:t>
            </a: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1  fu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7640" y="981000"/>
            <a:ext cx="72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0.051167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617840" y="1125360"/>
            <a:ext cx="105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15.32593-0.05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269080" y="1413000"/>
            <a:ext cx="592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8.56 k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8" name=""/>
          <p:cNvGraphicFramePr/>
          <p:nvPr/>
        </p:nvGraphicFramePr>
        <p:xfrm>
          <a:off x="3780000" y="1052640"/>
          <a:ext cx="2823840" cy="21603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80000" y="1052640"/>
                    <a:ext cx="2823840" cy="2160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4355640" y="836640"/>
            <a:ext cx="104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ud </a:t>
            </a:r>
            <a:r>
              <a:rPr b="1" lang="en-AU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</a:t>
            </a: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AU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6</a:t>
            </a: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AU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3 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63640" y="836640"/>
            <a:ext cx="794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3 um x3 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76360" y="1125360"/>
            <a:ext cx="72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0.0485189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6083280" y="1197000"/>
            <a:ext cx="111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27.86224-0.066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156360" y="1773360"/>
            <a:ext cx="156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isotrp fiel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gate 2.36 k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gap 4.46 k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55640" y="836640"/>
            <a:ext cx="104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ud </a:t>
            </a:r>
            <a:r>
              <a:rPr b="1" lang="en-AU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</a:t>
            </a: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AU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6</a:t>
            </a: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AU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3 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083280" y="1197000"/>
            <a:ext cx="111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27.86224-0.066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156360" y="1773360"/>
            <a:ext cx="156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isotrp fiel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gate 2.36 k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gap 4.46 k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355640" y="836640"/>
            <a:ext cx="104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ud </a:t>
            </a:r>
            <a:r>
              <a:rPr b="1" lang="en-AU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</a:t>
            </a: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AU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6</a:t>
            </a: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AU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3 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6083280" y="1197000"/>
            <a:ext cx="111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27.86224-0.066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611280" y="3789360"/>
          <a:ext cx="2555640" cy="1955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280" y="3789360"/>
                    <a:ext cx="2555640" cy="195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1042920" y="3429000"/>
            <a:ext cx="105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ud </a:t>
            </a:r>
            <a:r>
              <a:rPr b="1" lang="en-AU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R68</a:t>
            </a: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AU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3 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3" name=""/>
          <p:cNvGraphicFramePr/>
          <p:nvPr/>
        </p:nvGraphicFramePr>
        <p:xfrm>
          <a:off x="4716360" y="4365720"/>
          <a:ext cx="2521080" cy="19288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716360" y="4365720"/>
                    <a:ext cx="2521080" cy="19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" name=""/>
          <p:cNvSpPr/>
          <p:nvPr/>
        </p:nvSpPr>
        <p:spPr>
          <a:xfrm>
            <a:off x="5003640" y="3645000"/>
            <a:ext cx="104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ud </a:t>
            </a:r>
            <a:r>
              <a:rPr b="1" lang="en-AU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65</a:t>
            </a: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AU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7 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5651280" y="4149720"/>
            <a:ext cx="724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0.0506306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30920" y="4724280"/>
            <a:ext cx="111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19.07684-0.0724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7164360" y="5445000"/>
            <a:ext cx="113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anisotropy fiel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gate 9.16 k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gap 1.4 k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3255840" y="-64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volta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" name=""/>
          <p:cNvGraphicFramePr/>
          <p:nvPr/>
        </p:nvGraphicFramePr>
        <p:xfrm>
          <a:off x="3348000" y="620640"/>
          <a:ext cx="2665440" cy="203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48000" y="620640"/>
                    <a:ext cx="2665440" cy="20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395280" y="549360"/>
          <a:ext cx="2664000" cy="2038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95280" y="549360"/>
                    <a:ext cx="2664000" cy="203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" name=""/>
          <p:cNvSpPr/>
          <p:nvPr/>
        </p:nvSpPr>
        <p:spPr>
          <a:xfrm>
            <a:off x="971640" y="404640"/>
            <a:ext cx="94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ud R</a:t>
            </a:r>
            <a:r>
              <a:rPr b="1" lang="en-AU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</a:t>
            </a: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1  fu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468360" y="2708280"/>
          <a:ext cx="2536920" cy="1941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68360" y="2708280"/>
                    <a:ext cx="2536920" cy="19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3203640" y="2492280"/>
          <a:ext cx="3024000" cy="2314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03640" y="2492280"/>
                    <a:ext cx="3024000" cy="231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9" name=""/>
          <p:cNvSpPr/>
          <p:nvPr/>
        </p:nvSpPr>
        <p:spPr>
          <a:xfrm>
            <a:off x="1042560" y="2781360"/>
            <a:ext cx="104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ud </a:t>
            </a:r>
            <a:r>
              <a:rPr b="1" lang="en-AU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</a:t>
            </a: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AU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6</a:t>
            </a: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AU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3 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4000" y="4797360"/>
            <a:ext cx="104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ud </a:t>
            </a:r>
            <a:r>
              <a:rPr b="1" lang="en-AU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65</a:t>
            </a: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AU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7 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1" name=""/>
          <p:cNvGraphicFramePr/>
          <p:nvPr/>
        </p:nvGraphicFramePr>
        <p:xfrm>
          <a:off x="755640" y="4903920"/>
          <a:ext cx="2554200" cy="19540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755640" y="4903920"/>
                    <a:ext cx="2554200" cy="19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3" name=""/>
          <p:cNvSpPr/>
          <p:nvPr/>
        </p:nvSpPr>
        <p:spPr>
          <a:xfrm>
            <a:off x="1549080" y="5013360"/>
            <a:ext cx="1462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-1.90875 Oe/V  after 1 V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3492360" y="4873680"/>
          <a:ext cx="2592360" cy="19843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492360" y="4873680"/>
                    <a:ext cx="2592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6300720" y="2637000"/>
          <a:ext cx="2592360" cy="19843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300720" y="2637000"/>
                    <a:ext cx="2592360" cy="19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7670160" y="2708280"/>
            <a:ext cx="125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0.30482 mdeg/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6516720" y="4941720"/>
          <a:ext cx="2305080" cy="1764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6516720" y="4941720"/>
                    <a:ext cx="2305080" cy="176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7598880" y="5013360"/>
            <a:ext cx="1255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000000"/>
                </a:solidFill>
                <a:latin typeface="Times New Roman"/>
              </a:rPr>
              <a:t>-0.48223 mdeg/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6156360" y="549360"/>
          <a:ext cx="2519280" cy="192708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156360" y="549360"/>
                    <a:ext cx="2519280" cy="192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7306200" y="549360"/>
            <a:ext cx="14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-0.40379 mdeg/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492360" y="0"/>
            <a:ext cx="117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In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268360" y="836640"/>
          <a:ext cx="2752920" cy="210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836640"/>
                    <a:ext cx="275292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755640" y="620640"/>
            <a:ext cx="94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ud R</a:t>
            </a:r>
            <a:r>
              <a:rPr b="1" lang="en-AU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</a:t>
            </a: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1  fu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2360" y="1123920"/>
            <a:ext cx="83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600" spc="-1" strike="noStrike">
                <a:solidFill>
                  <a:srgbClr val="000000"/>
                </a:solidFill>
                <a:latin typeface="Times New Roman"/>
              </a:rPr>
              <a:t>8.56 k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0" y="907920"/>
          <a:ext cx="2484360" cy="1901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907920"/>
                    <a:ext cx="2484360" cy="1901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" name=""/>
          <p:cNvGraphicFramePr/>
          <p:nvPr/>
        </p:nvGraphicFramePr>
        <p:xfrm>
          <a:off x="539640" y="3573360"/>
          <a:ext cx="2880000" cy="2203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39640" y="3573360"/>
                    <a:ext cx="2880000" cy="22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2627280" y="4508640"/>
            <a:ext cx="1565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Anisotrp fiel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gate 2.36 k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gap 4.46 k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26560" y="3355920"/>
            <a:ext cx="104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ud </a:t>
            </a:r>
            <a:r>
              <a:rPr b="1" lang="en-AU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</a:t>
            </a: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AU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6</a:t>
            </a: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AU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3 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164360" y="1413000"/>
            <a:ext cx="104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ud </a:t>
            </a:r>
            <a:r>
              <a:rPr b="1" lang="en-AU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65</a:t>
            </a: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AU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7 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940360" y="1413000"/>
            <a:ext cx="1133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anisotropy fiel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gate 9.16 k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gap 1.4 k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5940360" y="4221000"/>
          <a:ext cx="2735280" cy="20923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940360" y="4221000"/>
                    <a:ext cx="2735280" cy="209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0" name=""/>
          <p:cNvGraphicFramePr/>
          <p:nvPr/>
        </p:nvGraphicFramePr>
        <p:xfrm>
          <a:off x="6300720" y="1989000"/>
          <a:ext cx="2681280" cy="20512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300720" y="1989000"/>
                    <a:ext cx="2681280" cy="205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3255480" y="-79200"/>
            <a:ext cx="97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tim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95280" y="836640"/>
          <a:ext cx="2465280" cy="1886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95280" y="836640"/>
                    <a:ext cx="246528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5" name=""/>
          <p:cNvGraphicFramePr/>
          <p:nvPr/>
        </p:nvGraphicFramePr>
        <p:xfrm>
          <a:off x="2771640" y="765000"/>
          <a:ext cx="2536920" cy="1941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71640" y="765000"/>
                    <a:ext cx="2536920" cy="1941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971640" y="836640"/>
            <a:ext cx="948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ud R</a:t>
            </a:r>
            <a:r>
              <a:rPr b="1" lang="en-AU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2</a:t>
            </a: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1  fu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617840" y="1125360"/>
            <a:ext cx="105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15.32593-0.0515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26560" y="3787920"/>
            <a:ext cx="104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ud </a:t>
            </a:r>
            <a:r>
              <a:rPr b="1" lang="en-AU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</a:t>
            </a: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en-AU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6</a:t>
            </a: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AU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3 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53840" y="4221000"/>
            <a:ext cx="111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27.86224-0.06637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611280" y="4508640"/>
          <a:ext cx="2392200" cy="183024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11280" y="4508640"/>
                    <a:ext cx="2392200" cy="18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3" name=""/>
          <p:cNvGraphicFramePr/>
          <p:nvPr/>
        </p:nvGraphicFramePr>
        <p:xfrm>
          <a:off x="2916360" y="4292640"/>
          <a:ext cx="2736720" cy="20937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16360" y="4292640"/>
                    <a:ext cx="2736720" cy="20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5" name=""/>
          <p:cNvSpPr/>
          <p:nvPr/>
        </p:nvSpPr>
        <p:spPr>
          <a:xfrm>
            <a:off x="6948360" y="1773360"/>
            <a:ext cx="1046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ud </a:t>
            </a:r>
            <a:r>
              <a:rPr b="1" lang="en-AU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L65</a:t>
            </a:r>
            <a:r>
              <a:rPr b="1" lang="en-AU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AU" sz="12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7 u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449840" y="4581360"/>
            <a:ext cx="111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000" spc="-1" strike="noStrike">
                <a:solidFill>
                  <a:srgbClr val="000000"/>
                </a:solidFill>
                <a:latin typeface="Times New Roman"/>
              </a:rPr>
              <a:t>19.07684-0.07242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6227640" y="4076640"/>
          <a:ext cx="2608560" cy="1995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227640" y="4076640"/>
                    <a:ext cx="2608560" cy="19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9" name=""/>
          <p:cNvGraphicFramePr/>
          <p:nvPr/>
        </p:nvGraphicFramePr>
        <p:xfrm>
          <a:off x="6084720" y="2205000"/>
          <a:ext cx="2305080" cy="17636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084720" y="2205000"/>
                    <a:ext cx="2305080" cy="176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3-12T17:54:40Z</dcterms:created>
  <dc:creator>probe</dc:creator>
  <dc:description/>
  <dc:language>en-US</dc:language>
  <cp:lastModifiedBy>probe</cp:lastModifiedBy>
  <dcterms:modified xsi:type="dcterms:W3CDTF">2018-03-14T18:41:31Z</dcterms:modified>
  <cp:revision>5</cp:revision>
  <dc:subject/>
  <dc:title>PowerPoint Presentation</dc:title>
</cp:coreProperties>
</file>