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5D47F-3649-4922-A1A5-55871D1F35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7950-BD22-4B5A-BA9D-87655561C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A64A-A6BD-412A-B0DC-EB197D35A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C1786-1520-48EF-939E-7BE02E3A6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31076-F820-47B1-A5C1-46D45F80F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5804-1D29-4A5B-8193-ACB0F660F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6F308-E16F-4709-86FA-2C34EC039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10CAD-2644-47F4-8B7B-D3BD8BBEA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1CA3-FFB4-4B59-BC38-EE24B36B9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AB578-50EE-408F-883D-1194F8477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BD244-18CC-4757-82CF-7FB33C56A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5715E-0702-47DC-ACE6-81FB0FC53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33BE2-B246-4AF6-B5EF-4310B036E615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739800"/>
          <a:ext cx="2987640" cy="2286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739800"/>
                    <a:ext cx="2987640" cy="22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3924720" y="0"/>
            <a:ext cx="168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nisotropy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2000" y="3110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668000" y="4046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6012000" y="476280"/>
          <a:ext cx="2985840" cy="2284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476280"/>
                    <a:ext cx="2985840" cy="228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3924000" y="0"/>
            <a:ext cx="17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like tor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972000" y="3110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08000" y="692280"/>
          <a:ext cx="2752560" cy="210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692280"/>
                    <a:ext cx="2752560" cy="210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7668000" y="4046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5435640" y="692280"/>
          <a:ext cx="3112920" cy="238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692280"/>
                    <a:ext cx="3112920" cy="238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3924000" y="0"/>
            <a:ext cx="175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mp-like torq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972000" y="3110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7" name=""/>
          <p:cNvGraphicFramePr/>
          <p:nvPr/>
        </p:nvGraphicFramePr>
        <p:xfrm>
          <a:off x="324000" y="836640"/>
          <a:ext cx="2752560" cy="21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836640"/>
                    <a:ext cx="27525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" name=""/>
          <p:cNvSpPr/>
          <p:nvPr/>
        </p:nvSpPr>
        <p:spPr>
          <a:xfrm>
            <a:off x="7668000" y="4046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012000" y="907920"/>
          <a:ext cx="2968560" cy="2271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12000" y="907920"/>
                    <a:ext cx="2968560" cy="227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3923640" y="0"/>
            <a:ext cx="264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hange of Anisotropy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72000" y="3110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620640"/>
          <a:ext cx="2897280" cy="2216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620640"/>
                    <a:ext cx="2897280" cy="2216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" name=""/>
          <p:cNvSpPr/>
          <p:nvPr/>
        </p:nvSpPr>
        <p:spPr>
          <a:xfrm>
            <a:off x="7668000" y="4046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7" name=""/>
          <p:cNvGraphicFramePr/>
          <p:nvPr/>
        </p:nvGraphicFramePr>
        <p:xfrm>
          <a:off x="5940360" y="765000"/>
          <a:ext cx="2808360" cy="21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940360" y="765000"/>
                    <a:ext cx="280836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923640" y="0"/>
            <a:ext cx="1500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eld-like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972000" y="3110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108000" y="692280"/>
          <a:ext cx="2465280" cy="1885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8000" y="692280"/>
                    <a:ext cx="246528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" name=""/>
          <p:cNvSpPr/>
          <p:nvPr/>
        </p:nvSpPr>
        <p:spPr>
          <a:xfrm>
            <a:off x="7668000" y="4046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4" name=""/>
          <p:cNvGraphicFramePr/>
          <p:nvPr/>
        </p:nvGraphicFramePr>
        <p:xfrm>
          <a:off x="6084720" y="692280"/>
          <a:ext cx="2681280" cy="2050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84720" y="692280"/>
                    <a:ext cx="2681280" cy="205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3924360" y="0"/>
            <a:ext cx="1168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amp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972000" y="3110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4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8" name=""/>
          <p:cNvGraphicFramePr/>
          <p:nvPr/>
        </p:nvGraphicFramePr>
        <p:xfrm>
          <a:off x="179280" y="692280"/>
          <a:ext cx="2392560" cy="18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692280"/>
                    <a:ext cx="239256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" name=""/>
          <p:cNvSpPr/>
          <p:nvPr/>
        </p:nvSpPr>
        <p:spPr>
          <a:xfrm>
            <a:off x="6372720" y="54936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5435640" y="476280"/>
          <a:ext cx="3489120" cy="267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435640" y="476280"/>
                    <a:ext cx="3489120" cy="267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4-27T01:57:12Z</dcterms:created>
  <dc:creator>probe</dc:creator>
  <dc:description/>
  <dc:language>en-US</dc:language>
  <cp:lastModifiedBy>probe</cp:lastModifiedBy>
  <dcterms:modified xsi:type="dcterms:W3CDTF">2019-04-27T02:17:02Z</dcterms:modified>
  <cp:revision>1</cp:revision>
  <dc:subject/>
  <dc:title>PowerPoint Presentation</dc:title>
</cp:coreProperties>
</file>