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8.bin" ContentType="application/vnd.openxmlformats-officedocument.oleObject"/>
  <Override PartName="/ppt/embeddings/oleObject9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DA6B6-B15A-413A-BB3E-41263CA53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D26B0-6F2D-4943-BB8D-57B48AEC0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851A-064E-494F-ABDD-BD662733E2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AECA9-8244-478D-A3FD-07F10538D3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B199-83BD-4129-8FCA-5BEA587122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DF5A8-CD9D-4956-9AA2-326A3D598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7313E-3D56-4DE8-9E98-838A3443B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BDF0-1D2D-47D1-A9C6-37D36DFCC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0BA8-4F74-47BF-A854-B02789D9E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85DDF-CF68-4FF5-8119-E310A443F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7A03-FD01-4934-BBCB-A749904B1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858-3310-4A91-AD2D-C9B66CAF4E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578FBF-1091-4ACC-A23A-38C291A977F2}" type="slidenum"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2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3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14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15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16.wmf"/><Relationship Id="rId19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39640" y="3357720"/>
          <a:ext cx="2392560" cy="1830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9640" y="3357720"/>
                    <a:ext cx="239256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684360" y="5157720"/>
          <a:ext cx="2031840" cy="1554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4360" y="5157720"/>
                    <a:ext cx="2031840" cy="1554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00720" y="306864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L49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" name=""/>
          <p:cNvGraphicFramePr/>
          <p:nvPr/>
        </p:nvGraphicFramePr>
        <p:xfrm>
          <a:off x="3059280" y="3213000"/>
          <a:ext cx="2320920" cy="1776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059280" y="3213000"/>
                    <a:ext cx="2320920" cy="177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8" name=""/>
          <p:cNvGraphicFramePr/>
          <p:nvPr/>
        </p:nvGraphicFramePr>
        <p:xfrm>
          <a:off x="2916360" y="4971960"/>
          <a:ext cx="2465280" cy="18860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916360" y="4971960"/>
                    <a:ext cx="246528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" name=""/>
          <p:cNvSpPr/>
          <p:nvPr/>
        </p:nvSpPr>
        <p:spPr>
          <a:xfrm>
            <a:off x="3564360" y="292428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L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5651640" y="2924280"/>
          <a:ext cx="2736720" cy="20937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651640" y="2924280"/>
                    <a:ext cx="2736720" cy="20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5580000" y="4929120"/>
          <a:ext cx="2521080" cy="19288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5580000" y="4929120"/>
                    <a:ext cx="2521080" cy="192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6084720" y="333360"/>
          <a:ext cx="2592720" cy="198288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084720" y="333360"/>
                    <a:ext cx="2592720" cy="198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>
            <a:off x="6588360" y="2637000"/>
            <a:ext cx="4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8" name=""/>
          <p:cNvGraphicFramePr/>
          <p:nvPr/>
        </p:nvGraphicFramePr>
        <p:xfrm>
          <a:off x="88920" y="750960"/>
          <a:ext cx="2448000" cy="1873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750960"/>
                    <a:ext cx="2448000" cy="1873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3835440" y="-79200"/>
            <a:ext cx="109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72360" y="115920"/>
            <a:ext cx="58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L49B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067640" y="404640"/>
            <a:ext cx="4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L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093440" y="260280"/>
            <a:ext cx="46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ＭＳ Ｐゴシック"/>
              </a:rPr>
              <a:t>4</a:t>
            </a:r>
            <a:r>
              <a:rPr b="0" lang="en-AU" sz="1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233280" y="2779560"/>
          <a:ext cx="2392560" cy="1830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33280" y="2779560"/>
                    <a:ext cx="2392560" cy="183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"/>
          <p:cNvGraphicFramePr/>
          <p:nvPr/>
        </p:nvGraphicFramePr>
        <p:xfrm>
          <a:off x="324000" y="4724280"/>
          <a:ext cx="2536560" cy="1941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24000" y="4724280"/>
                    <a:ext cx="253656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" name=""/>
          <p:cNvGraphicFramePr/>
          <p:nvPr/>
        </p:nvGraphicFramePr>
        <p:xfrm>
          <a:off x="6156360" y="692280"/>
          <a:ext cx="2536920" cy="19414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156360" y="692280"/>
                    <a:ext cx="253692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0" name=""/>
          <p:cNvGraphicFramePr/>
          <p:nvPr/>
        </p:nvGraphicFramePr>
        <p:xfrm>
          <a:off x="6156360" y="2565360"/>
          <a:ext cx="2752560" cy="21067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71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156360" y="2565360"/>
                    <a:ext cx="27525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2" name=""/>
          <p:cNvGraphicFramePr/>
          <p:nvPr/>
        </p:nvGraphicFramePr>
        <p:xfrm>
          <a:off x="6443640" y="5083200"/>
          <a:ext cx="2319480" cy="177480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443640" y="5083200"/>
                    <a:ext cx="2319480" cy="177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203640" y="692280"/>
          <a:ext cx="2392200" cy="18302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3203640" y="692280"/>
                    <a:ext cx="2392200" cy="1830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3348000" y="2492280"/>
          <a:ext cx="2536920" cy="1941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3348000" y="2492280"/>
                    <a:ext cx="2536920" cy="1941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8" name=""/>
          <p:cNvGraphicFramePr/>
          <p:nvPr/>
        </p:nvGraphicFramePr>
        <p:xfrm>
          <a:off x="3492360" y="4797360"/>
          <a:ext cx="2465640" cy="1886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3492360" y="4797360"/>
                    <a:ext cx="2465640" cy="188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8T00:21:01Z</dcterms:created>
  <dc:creator>probe</dc:creator>
  <dc:description/>
  <dc:language>en-US</dc:language>
  <cp:lastModifiedBy>probe</cp:lastModifiedBy>
  <dcterms:modified xsi:type="dcterms:W3CDTF">2019-05-08T00:46:49Z</dcterms:modified>
  <cp:revision>2</cp:revision>
  <dc:subject/>
  <dc:title>PowerPoint Presentation</dc:title>
</cp:coreProperties>
</file>