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EBE-AB75-4E49-812F-3FF657A3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A40-C8E2-4271-B04F-3576574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EBD-8040-4A46-84E2-F7DD8B3C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7B9-F555-43CC-AA9B-4D3D78E8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587-9C2F-4ED5-B036-F4D21C0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81D-5D96-47F5-93CD-C8B8F72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470-FB66-4E65-A564-BFBB1DAA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A32-CB78-4032-A1C6-3C80C7D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8D7-B716-4645-A190-B74727BF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CC3-8CC6-4BF0-A1E1-4846475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CE9-CD46-449E-B08E-027BD56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F24-00EB-4AE2-9453-648B66C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67AB-B64A-4AA8-BB54-E417EE2CA17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549360"/>
          <a:ext cx="28242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28242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9892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2708280"/>
          <a:ext cx="2681280" cy="20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708280"/>
                    <a:ext cx="2681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724360" y="549360"/>
          <a:ext cx="2752920" cy="21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549360"/>
                    <a:ext cx="275292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651640" y="2637000"/>
          <a:ext cx="2896920" cy="22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637000"/>
                    <a:ext cx="28969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02036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86040" y="-792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fset field 0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476280"/>
          <a:ext cx="304020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30402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9892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24360" y="692280"/>
          <a:ext cx="2808360" cy="21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692280"/>
                    <a:ext cx="280836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02036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70040" y="-64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fset field 90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692280"/>
          <a:ext cx="28083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2280"/>
                    <a:ext cx="28083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9892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867280" y="765000"/>
          <a:ext cx="2681280" cy="20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765000"/>
                    <a:ext cx="268128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20360" y="1890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 59 ha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19:49:54Z</dcterms:created>
  <dc:creator>probe</dc:creator>
  <dc:description/>
  <dc:language>en-US</dc:language>
  <cp:lastModifiedBy>probe</cp:lastModifiedBy>
  <dcterms:modified xsi:type="dcterms:W3CDTF">2019-01-23T22:12:08Z</dcterms:modified>
  <cp:revision>2</cp:revision>
  <dc:subject/>
  <dc:title>PowerPoint Presentation</dc:title>
</cp:coreProperties>
</file>