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060-8F5C-49A6-B077-AD39CBEB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F31-6A7D-4529-8159-7AE7079F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8A0-654D-49D1-B4E3-BD0FE514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E2B-69D0-4CA3-A2DD-97B67B57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D08-901F-48D7-BB3A-569B2E04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837-D6B6-4C1D-A30E-48C79266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8B8-1FD0-41B3-95B9-811DA5DB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FDB-E2CA-4478-AC1F-7E99B349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CD5-E572-461C-A913-9EF67068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5DF-34C8-4BB3-9745-990AE84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30A-BDF3-43CA-B77A-82F8AA3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9D7-2A8D-4154-BE7A-BE70697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2B80-1C73-4851-8417-EFBF211344A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4600" y="136440"/>
            <a:ext cx="178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nis,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on 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620640"/>
          <a:ext cx="2592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50920" y="2565360"/>
          <a:ext cx="230508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565360"/>
                    <a:ext cx="23050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24000" y="4581360"/>
          <a:ext cx="2665440" cy="204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581360"/>
                    <a:ext cx="266544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78040" y="3319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64000" y="2349360"/>
          <a:ext cx="2305080" cy="176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2349360"/>
                    <a:ext cx="230508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64000" y="4292640"/>
          <a:ext cx="172872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4292640"/>
                    <a:ext cx="1728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208400" y="47628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39 200x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360" y="692280"/>
          <a:ext cx="2232000" cy="1708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69228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764000" y="98100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5 Oe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7720" y="0"/>
            <a:ext cx="367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in polarization, Hall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4000" y="476280"/>
          <a:ext cx="237636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237636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08000" y="4076640"/>
          <a:ext cx="2160360" cy="16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076640"/>
                    <a:ext cx="216036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50920" y="2205000"/>
          <a:ext cx="246528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205000"/>
                    <a:ext cx="24652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78040" y="3319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59280" y="692280"/>
          <a:ext cx="2031840" cy="15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692280"/>
                    <a:ext cx="20318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272760" y="40464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68 500x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987640" y="2349360"/>
          <a:ext cx="2320920" cy="177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2349360"/>
                    <a:ext cx="23209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771640" y="4292640"/>
          <a:ext cx="2320920" cy="17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4292640"/>
                    <a:ext cx="23209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012000" y="692280"/>
          <a:ext cx="2232000" cy="170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2000" y="69228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84720" y="2492280"/>
          <a:ext cx="2303640" cy="1762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2492280"/>
                    <a:ext cx="23036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67280" y="4365720"/>
          <a:ext cx="2519640" cy="192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365720"/>
                    <a:ext cx="25196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656400" y="33336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39 200x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1:22:05Z</dcterms:created>
  <dc:creator>probe</dc:creator>
  <dc:description/>
  <dc:language>en-US</dc:language>
  <cp:lastModifiedBy>probe</cp:lastModifiedBy>
  <dcterms:modified xsi:type="dcterms:W3CDTF">2019-01-24T19:54:29Z</dcterms:modified>
  <cp:revision>3</cp:revision>
  <dc:subject/>
  <dc:title>PowerPoint Presentation</dc:title>
</cp:coreProperties>
</file>