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3A7-EE51-44B9-8781-4FCA60E6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047-08EF-429B-A86E-B12369FB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784-4196-4A54-802C-B50A045F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638-446D-400F-A58B-65169C4A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51F-E9A1-410B-A36D-DA11E058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DC1-28BA-4463-B754-81C1D1A5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DF5-448F-43EC-B51C-965F1AD7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E9D3-8A2E-490F-B752-A7FFAE17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44C-8787-4E67-BDBA-29062E29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5049-F0CB-47FE-B5AA-D7A88EBD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506-CD60-42F3-8C5E-2BAC7E36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6C0-3995-4AC6-8280-8D60E445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FF56-1A54-48F2-A837-6BD0785F3A6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476280"/>
          <a:ext cx="239220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76280"/>
                    <a:ext cx="23922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50920" y="2492280"/>
          <a:ext cx="2176200" cy="16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492280"/>
                    <a:ext cx="217620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324000" y="4365720"/>
          <a:ext cx="2031840" cy="155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4365720"/>
                    <a:ext cx="203184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465480" y="115920"/>
            <a:ext cx="109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ud 66  200 gate 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843280" y="476280"/>
          <a:ext cx="2160360" cy="165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476280"/>
                    <a:ext cx="216036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700360" y="2205000"/>
          <a:ext cx="2376360" cy="181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00360" y="2205000"/>
                    <a:ext cx="237636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700360" y="4149720"/>
          <a:ext cx="2519280" cy="19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00360" y="4149720"/>
                    <a:ext cx="251928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5T20:41:52Z</dcterms:created>
  <dc:creator>probe</dc:creator>
  <dc:description/>
  <dc:language>en-US</dc:language>
  <cp:lastModifiedBy>probe</cp:lastModifiedBy>
  <dcterms:modified xsi:type="dcterms:W3CDTF">2019-09-30T22:42:34Z</dcterms:modified>
  <cp:revision>12</cp:revision>
  <dc:subject/>
  <dc:title>PowerPoint Presentation</dc:title>
</cp:coreProperties>
</file>