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68B-6B94-475A-9EB2-34DA9773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94D-7AFF-4418-80BD-F99D60E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D57-A946-4093-8D4C-98EF0D9A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499-74CA-4AFA-BD7C-B19D96A5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5BF-7B30-4CB4-9869-60976D13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588-C0C5-4233-ACCF-8F75B7D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E16-F7FD-4E69-9782-F73A378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DC4-DFE8-49A6-9ABC-9C556F71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A61-17B1-4AFF-B589-B6A6A69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160-7CBC-49C8-8720-DBC2E17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C97-E941-4599-A65C-004AC11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0F7-3DE3-4914-BBFA-6CB49BC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BC32-8A87-45BB-B34F-238D72A228B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36640" y="189000"/>
            <a:ext cx="438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a(2.5)/FeBCo(x=0.3 1 nm)/ MgO(6)/  Ta(1)/Ru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gO 220C/36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60 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1916280"/>
          <a:ext cx="259236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259236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826200" y="1197000"/>
            <a:ext cx="92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1000 x Sq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560" y="17002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403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1125360"/>
            <a:ext cx="111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short (0.6-3.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8.85329-0.043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long (2-2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1.13166-0.106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5640" y="69228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ery strong exchange coupling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76720" y="2043000"/>
          <a:ext cx="24476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43000"/>
                    <a:ext cx="24476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348000" y="1197000"/>
            <a:ext cx="71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0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00200" y="1674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5214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9840" y="1413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42.62871-0.133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867280" y="1916280"/>
          <a:ext cx="2895840" cy="22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916280"/>
                    <a:ext cx="28958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442560" y="1197000"/>
            <a:ext cx="104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u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6  400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23280" y="134136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2.81142--0.06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4764240"/>
          <a:ext cx="2736720" cy="20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4764240"/>
                    <a:ext cx="27367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54200" y="4653000"/>
            <a:ext cx="67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0.0437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515772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after 2.7 s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7.93337-0.165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before 1.35 s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7.82549-0.0504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595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anisotropic 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.34 k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8360" y="42926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8 10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76720" y="4653000"/>
          <a:ext cx="2592360" cy="19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65300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96720" y="436572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3640" y="47242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662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3737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anisotropic 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.55</a:t>
            </a: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734080"/>
            <a:ext cx="1366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34.26481-0.125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8.12033--0.1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4000" y="765000"/>
          <a:ext cx="2735280" cy="20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5000"/>
                    <a:ext cx="2735280" cy="20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55640" y="260280"/>
            <a:ext cx="69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100 x 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635280" y="981000"/>
          <a:ext cx="217656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981000"/>
                    <a:ext cx="21765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995640" y="333360"/>
            <a:ext cx="69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ee 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100 x 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280" y="76500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543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3573360"/>
          <a:ext cx="2808360" cy="21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573360"/>
                    <a:ext cx="28083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43280" y="33577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92  200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92360" y="260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197000"/>
          <a:ext cx="232092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1840" y="549360"/>
            <a:ext cx="92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1000 x Sq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2160" y="155736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5.1171 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3933720"/>
          <a:ext cx="252108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933720"/>
                    <a:ext cx="25210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11280" y="3357720"/>
            <a:ext cx="71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0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AU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98160" y="443700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0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2360" y="0"/>
            <a:ext cx="11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ithstand 2 V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12000" y="4581360"/>
          <a:ext cx="2552400" cy="19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581360"/>
                    <a:ext cx="25524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940360" y="620640"/>
          <a:ext cx="2592360" cy="198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62064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867280" y="2708280"/>
          <a:ext cx="2624400" cy="20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708280"/>
                    <a:ext cx="262440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7290360" y="49860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160" y="285264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13.01728 mdeg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8160" y="5084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0.2 kG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17800" y="26028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8 10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8000" y="26028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836640"/>
          <a:ext cx="259236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259236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987640" y="836640"/>
          <a:ext cx="2536920" cy="19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83664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95280" y="3860640"/>
          <a:ext cx="287964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860640"/>
                    <a:ext cx="287964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132000" y="3789360"/>
          <a:ext cx="2951280" cy="225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3789360"/>
                    <a:ext cx="29512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867280" y="1052640"/>
          <a:ext cx="2448000" cy="187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1052640"/>
                    <a:ext cx="24480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335640" y="3933720"/>
          <a:ext cx="2808360" cy="214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35640" y="3933720"/>
                    <a:ext cx="280836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82520" y="47628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74.62671 mdeg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57120" y="3357720"/>
            <a:ext cx="111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34.26481-0.125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8.12033--0.1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2160" y="105264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50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59280" y="2205000"/>
          <a:ext cx="2592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20500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64000" y="333360"/>
          <a:ext cx="24652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3336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84720" y="2565360"/>
          <a:ext cx="2697480" cy="206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2565360"/>
                    <a:ext cx="26974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4360" y="2708280"/>
          <a:ext cx="2303280" cy="17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708280"/>
                    <a:ext cx="2303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4360" y="549360"/>
          <a:ext cx="2336760" cy="17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549360"/>
                    <a:ext cx="23367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372360" y="260280"/>
          <a:ext cx="2447640" cy="187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60280"/>
                    <a:ext cx="24476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26520" y="62064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1.26282 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89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92  200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43657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0 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3.59401-0.114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-2 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3.56387-0.11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+ 2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25.54696--0.1246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75120" y="-64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59280" y="765000"/>
          <a:ext cx="2247840" cy="17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76500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699280" y="404640"/>
            <a:ext cx="92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ud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1000 x Sq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620640"/>
          <a:ext cx="20872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620640"/>
                    <a:ext cx="20872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189000"/>
            <a:ext cx="113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anisotropy fie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gate 4.781 k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gap 4.5 but satur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32000" y="2637000"/>
          <a:ext cx="2681280" cy="20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63700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0920" y="2565360"/>
          <a:ext cx="2448000" cy="187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565360"/>
                    <a:ext cx="244800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47640" y="33577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isotrop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5.3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0720" y="249228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8 10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4869000"/>
          <a:ext cx="2376720" cy="181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4869000"/>
                    <a:ext cx="237672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419640" y="4984920"/>
          <a:ext cx="2447640" cy="187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4984920"/>
                    <a:ext cx="24476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360" y="4653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19120" y="-6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8000" y="4005360"/>
          <a:ext cx="203184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00536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050920" y="3645000"/>
          <a:ext cx="2608560" cy="19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645000"/>
                    <a:ext cx="260856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419640" y="378936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after 2.7 s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57.93337-0.165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before 1.35 s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17.82549-0.0504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8360" y="342900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e28 1000 x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3T05:36:29Z</dcterms:created>
  <dc:creator>probe</dc:creator>
  <dc:description/>
  <dc:language>en-US</dc:language>
  <cp:lastModifiedBy>probe</cp:lastModifiedBy>
  <dcterms:modified xsi:type="dcterms:W3CDTF">2018-04-11T18:25:15Z</dcterms:modified>
  <cp:revision>8</cp:revision>
  <dc:subject/>
  <dc:title>PowerPoint Presentation</dc:title>
</cp:coreProperties>
</file>