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5DA-858D-4D30-AC10-649A7E93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6A7-5526-4700-A7BC-E2F2962F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9D3-5867-4FC5-B493-84CFD87A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515-2CBA-4217-BAD8-ACEF8493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FC4-578A-4F03-9A66-BA9BB29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EEA-FD12-479A-AFE0-C715F554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B6C-69F9-4DAE-A2B2-D6FE2E99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751-5DDC-4F0C-B9E2-1AEAD11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87-3A4D-4248-9280-1A2DBFF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ECB-2A02-406E-AD44-4B052D5C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B51-C4A0-4791-BA66-ACF9A25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BF5-40A2-454E-9C0C-5DF9D78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CDC-F898-4853-AC33-742A94EE201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8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3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83120" y="-79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in polarization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549360"/>
          <a:ext cx="260820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60820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24000" y="2421000"/>
          <a:ext cx="24652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42100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95280" y="4797360"/>
          <a:ext cx="2233800" cy="17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797360"/>
                    <a:ext cx="223380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12000" y="549360"/>
          <a:ext cx="2232000" cy="170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54936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156360" y="2421000"/>
          <a:ext cx="1944720" cy="14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2421000"/>
                    <a:ext cx="19447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300720" y="4292640"/>
          <a:ext cx="2232000" cy="1708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29264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307640" y="2602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200" y="26028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39 2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64000" y="692280"/>
          <a:ext cx="2233440" cy="170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692280"/>
                    <a:ext cx="223344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846600" y="33336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68 500 x10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419640" y="2492280"/>
          <a:ext cx="2447640" cy="187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2492280"/>
                    <a:ext cx="244764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621080" y="35733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0.00441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%/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02760" y="-7920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isotrop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391440" y="333360"/>
          <a:ext cx="230472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1440" y="333360"/>
                    <a:ext cx="230472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391440" y="4149720"/>
          <a:ext cx="23922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1440" y="414972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894720" y="11736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50920" y="260280"/>
          <a:ext cx="2592360" cy="19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6028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4292640"/>
          <a:ext cx="2663640" cy="203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4292640"/>
                    <a:ext cx="26636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24000" y="2349360"/>
          <a:ext cx="2519280" cy="192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349360"/>
                    <a:ext cx="25192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372360" y="2205000"/>
          <a:ext cx="2481120" cy="18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205000"/>
                    <a:ext cx="248112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53080" y="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3280" y="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ud 66  200 gate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867280" y="404640"/>
          <a:ext cx="1960560" cy="15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04640"/>
                    <a:ext cx="196056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7380360" y="333360"/>
          <a:ext cx="210492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333360"/>
                    <a:ext cx="21049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1916280"/>
          <a:ext cx="2158920" cy="16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1916280"/>
                    <a:ext cx="215892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219640" y="3716280"/>
          <a:ext cx="2087640" cy="15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19640" y="3716280"/>
                    <a:ext cx="20876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7308720" y="3716280"/>
          <a:ext cx="2033640" cy="15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08720" y="3716280"/>
                    <a:ext cx="203364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076720" y="476280"/>
            <a:ext cx="7164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9120" y="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60    1000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260280"/>
          <a:ext cx="2050920" cy="156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60280"/>
                    <a:ext cx="205092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08000" y="1916280"/>
          <a:ext cx="2031840" cy="15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000" y="191628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08000" y="3500280"/>
          <a:ext cx="2087640" cy="159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8000" y="3500280"/>
                    <a:ext cx="20876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0" y="5013360"/>
          <a:ext cx="1832040" cy="140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5013360"/>
                    <a:ext cx="18320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979640" y="0"/>
            <a:ext cx="0" cy="659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83120" y="-79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in polarization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8000" y="404640"/>
          <a:ext cx="167328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04640"/>
                    <a:ext cx="16732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94920" y="4932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e 18  1000 x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76360" y="189000"/>
          <a:ext cx="208764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89000"/>
                    <a:ext cx="20876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1773360"/>
          <a:ext cx="194328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773360"/>
                    <a:ext cx="19432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3429000"/>
          <a:ext cx="2031840" cy="15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42900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835280" y="3500280"/>
          <a:ext cx="1815840" cy="138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5280" y="3500280"/>
                    <a:ext cx="181584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H="1">
            <a:off x="3708000" y="549360"/>
            <a:ext cx="7164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80000" y="476280"/>
          <a:ext cx="2016000" cy="154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476280"/>
                    <a:ext cx="20160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796000" y="476280"/>
          <a:ext cx="1873080" cy="14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6000" y="476280"/>
                    <a:ext cx="1873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442560" y="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66  200 gate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708360" y="1916280"/>
          <a:ext cx="1960560" cy="15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1916280"/>
                    <a:ext cx="196056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67280" y="1916280"/>
          <a:ext cx="1944720" cy="148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1916280"/>
                    <a:ext cx="1944720" cy="14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3573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51280" y="3789360"/>
          <a:ext cx="1944720" cy="1487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1280" y="3789360"/>
                    <a:ext cx="19447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24360" y="3789360"/>
          <a:ext cx="1727280" cy="13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3789360"/>
                    <a:ext cx="17272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380360" y="3789360"/>
          <a:ext cx="1763640" cy="1349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80360" y="3789360"/>
                    <a:ext cx="176364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93840" y="357336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60    1000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535720"/>
          <a:ext cx="1727280" cy="1322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0" y="5535720"/>
                    <a:ext cx="17272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6400" y="5229360"/>
            <a:ext cx="17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e 68  1000  L1100x300x3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050920" y="5479920"/>
          <a:ext cx="1800360" cy="1378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0920" y="5479920"/>
                    <a:ext cx="18003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67280" y="5479920"/>
          <a:ext cx="1800000" cy="1378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67280" y="5479920"/>
                    <a:ext cx="18000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156360" y="5373720"/>
          <a:ext cx="2089080" cy="159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56360" y="5373720"/>
                    <a:ext cx="20890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184920" y="-79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pump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549360"/>
          <a:ext cx="224784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224784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50920" y="2205000"/>
          <a:ext cx="2392200" cy="18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205000"/>
                    <a:ext cx="239220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4869000"/>
          <a:ext cx="239220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86900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48760" y="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39 2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12000" y="692280"/>
          <a:ext cx="2520720" cy="19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692280"/>
                    <a:ext cx="252072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227640" y="3284640"/>
          <a:ext cx="2465640" cy="188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3284640"/>
                    <a:ext cx="246564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307640" y="2602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03640" y="907920"/>
          <a:ext cx="2320920" cy="177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907920"/>
                    <a:ext cx="23209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76720" y="2708280"/>
          <a:ext cx="2320920" cy="177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708280"/>
                    <a:ext cx="2320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46600" y="33336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68 500 x10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83480" y="-79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ll angle v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8760" y="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39 2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4437000"/>
          <a:ext cx="230508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437000"/>
                    <a:ext cx="2305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516720" y="4653000"/>
          <a:ext cx="223200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65300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307640" y="2602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48000" y="765000"/>
          <a:ext cx="2374920" cy="18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765000"/>
                    <a:ext cx="237492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203640" y="2492280"/>
          <a:ext cx="2681280" cy="205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492280"/>
                    <a:ext cx="268128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75320" y="40464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68 500 x100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516720" y="765000"/>
          <a:ext cx="2230560" cy="170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765000"/>
                    <a:ext cx="223056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156360" y="2492280"/>
          <a:ext cx="2624040" cy="200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2492280"/>
                    <a:ext cx="2624040" cy="20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50920" y="2421000"/>
          <a:ext cx="2232000" cy="170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242100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50920" y="612720"/>
          <a:ext cx="2268360" cy="173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612720"/>
                    <a:ext cx="22683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48400" y="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eld like torque(0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4920" y="33336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60    1000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43280" y="2276640"/>
          <a:ext cx="203184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771640" y="620640"/>
          <a:ext cx="203220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620640"/>
                    <a:ext cx="20322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9280" y="11592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18  1000 x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333360"/>
          <a:ext cx="2232000" cy="17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33336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8000" y="2060640"/>
          <a:ext cx="2195640" cy="16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2060640"/>
                    <a:ext cx="219564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2771280" y="115920"/>
            <a:ext cx="7164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3860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73840" y="404640"/>
            <a:ext cx="17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68  1000  L1100x300x3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03280" y="189000"/>
            <a:ext cx="7164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148360" y="549360"/>
          <a:ext cx="208908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549360"/>
                    <a:ext cx="208908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076720" y="2133720"/>
          <a:ext cx="1943280" cy="148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133720"/>
                    <a:ext cx="19432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6948000" y="476280"/>
            <a:ext cx="7164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056360" y="333360"/>
          <a:ext cx="2087640" cy="159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56360" y="333360"/>
                    <a:ext cx="20876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163280" y="1159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ud 66  200 gate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020000" y="2060640"/>
          <a:ext cx="2232000" cy="1708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0000" y="206064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48400" y="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eld like torque(0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036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620640"/>
          <a:ext cx="2448000" cy="18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20640"/>
                    <a:ext cx="244800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0920" y="2492280"/>
          <a:ext cx="2592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49228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659640" y="620640"/>
          <a:ext cx="2087640" cy="159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620640"/>
                    <a:ext cx="20876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516720" y="2565360"/>
          <a:ext cx="2160720" cy="16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2565360"/>
                    <a:ext cx="216072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755160" y="-64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rque-like field (90 d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30200" y="33336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60    1000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627280" y="2421000"/>
          <a:ext cx="246528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42100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627280" y="620640"/>
          <a:ext cx="2392560" cy="18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620640"/>
                    <a:ext cx="239256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39280" y="11592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18  1000 x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260280"/>
          <a:ext cx="2176200" cy="16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60280"/>
                    <a:ext cx="217620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0" y="1916280"/>
          <a:ext cx="2303640" cy="176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916280"/>
                    <a:ext cx="2303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56000" y="11592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73840" y="404640"/>
            <a:ext cx="17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68  1000  L1100x300x3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404640"/>
            <a:ext cx="0" cy="403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76720" y="2781360"/>
          <a:ext cx="2087640" cy="15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2781360"/>
                    <a:ext cx="208764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148360" y="549360"/>
          <a:ext cx="2449440" cy="187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549360"/>
                    <a:ext cx="24494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739640" y="26028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ud 66  200 gate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308720" y="549360"/>
          <a:ext cx="1944720" cy="148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549360"/>
                    <a:ext cx="19447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093080" y="404640"/>
            <a:ext cx="7128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62920" y="2637000"/>
          <a:ext cx="1981080" cy="151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2637000"/>
                    <a:ext cx="198108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756240" y="-64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rque-lik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82200" y="2602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476280"/>
          <a:ext cx="2017440" cy="15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20174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588000" y="620640"/>
          <a:ext cx="2556000" cy="19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20640"/>
                    <a:ext cx="255600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02760" y="-7920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isotrop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635280" y="1773360"/>
          <a:ext cx="22320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7336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993840" y="26028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60    1000x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03640" y="692280"/>
          <a:ext cx="152856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692280"/>
                    <a:ext cx="15285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932360" y="476280"/>
          <a:ext cx="1800360" cy="13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6280"/>
                    <a:ext cx="18003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539280" y="115920"/>
            <a:ext cx="117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18  1000 x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115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00280"/>
          <a:ext cx="180036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700280"/>
                    <a:ext cx="18003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258920" y="1628640"/>
          <a:ext cx="1944720" cy="148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1628640"/>
                    <a:ext cx="19447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0" y="404640"/>
          <a:ext cx="1835280" cy="140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404640"/>
                    <a:ext cx="183528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619280" y="333360"/>
          <a:ext cx="1655640" cy="126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19280" y="333360"/>
                    <a:ext cx="16556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3213000"/>
            <a:ext cx="30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573360"/>
            <a:ext cx="30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1480" y="189000"/>
            <a:ext cx="17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free 68  1000  L1100x300x3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4920" y="33192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04000" y="115920"/>
            <a:ext cx="7308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093080" y="476280"/>
          <a:ext cx="1692000" cy="129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93080" y="476280"/>
                    <a:ext cx="16920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85080" y="1916280"/>
          <a:ext cx="2158920" cy="1650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5080" y="1916280"/>
                    <a:ext cx="21589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093080" y="364500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48360" y="4005360"/>
          <a:ext cx="2016360" cy="1542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48360" y="4005360"/>
                    <a:ext cx="201636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7378920" y="371628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ud68 500 x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920" y="328464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ud 66  200 gate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122800"/>
          <a:ext cx="2268360" cy="173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5122800"/>
                    <a:ext cx="22683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08000" y="3500280"/>
          <a:ext cx="1763640" cy="1349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8000" y="3500280"/>
                    <a:ext cx="176364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268360" y="328464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20:41:52Z</dcterms:created>
  <dc:creator>probe</dc:creator>
  <dc:description/>
  <dc:language>en-US</dc:language>
  <cp:lastModifiedBy>probe</cp:lastModifiedBy>
  <dcterms:modified xsi:type="dcterms:W3CDTF">2019-09-30T22:25:51Z</dcterms:modified>
  <cp:revision>10</cp:revision>
  <dc:subject/>
  <dc:title>PowerPoint Presentation</dc:title>
</cp:coreProperties>
</file>