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D1A-2734-4C47-A60F-A0FB78B2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3C2-677C-45B7-86BB-AFA62F47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59E3-B3D8-4221-8008-C1820F11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4F2-688A-42D0-B87B-BEF167AB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DE3-30A7-4EAC-8385-28539B9F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953-39D2-4FAE-82B5-60D85ED0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B0F-0FC4-4801-8BB6-40D81EDF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16A-4851-45B2-BBFF-2F43B8F3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723-8CE1-4EE6-B2D6-46E1898B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6CE-F5B7-4DF0-B5CB-4F83598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1F1-0225-4CB4-AB33-7C8A1526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BD6-2725-442B-B802-CCC3C6D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A539-1754-4982-B48E-F38551EB2569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2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48040" y="260280"/>
            <a:ext cx="49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Ta(2):FeB(1.3):MgO(5.1)/Ta(1)/Ru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0920" y="907920"/>
          <a:ext cx="2519280" cy="19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5192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85800" y="69228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AR41  gate 7 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5280" y="9079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2755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77840" y="112536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4.26157 -0.129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0920" y="1916280"/>
            <a:ext cx="113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te 4.2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p     4.10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51280" y="1052640"/>
          <a:ext cx="2408400" cy="18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1052640"/>
                    <a:ext cx="2408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357080" y="83664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R62  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2560" y="112536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9.41649-0.078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484280"/>
            <a:ext cx="84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te 4.3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p 4.0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37080" y="2708280"/>
            <a:ext cx="48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 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65440" y="285264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18 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3860640"/>
          <a:ext cx="2232000" cy="170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386064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6000" y="342900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L26 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000" y="371628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20727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4005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6.83919-0.059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0720" y="56610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35 O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1080" y="4508640"/>
            <a:ext cx="83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ate 4.31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77800" y="3573360"/>
            <a:ext cx="249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ate connector broken during measurement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227640" y="765000"/>
          <a:ext cx="22320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76500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324000" y="476280"/>
          <a:ext cx="23922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76280"/>
                    <a:ext cx="2392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334160" y="76500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3.4979 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69800" y="7650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50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76720" y="549360"/>
          <a:ext cx="2247840" cy="171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49360"/>
                    <a:ext cx="2247840" cy="17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469800" y="18900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AR41  gate 7 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9280" y="2708280"/>
          <a:ext cx="2176560" cy="166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2708280"/>
                    <a:ext cx="217656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700360" y="2565360"/>
          <a:ext cx="2247840" cy="171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2565360"/>
                    <a:ext cx="224784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7669800" y="299736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53.6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12000" y="2276640"/>
          <a:ext cx="2752560" cy="210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2000" y="2276640"/>
                    <a:ext cx="2752560" cy="21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25080" y="24922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R62  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9800" y="321300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.5 Oe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50920" y="4869000"/>
          <a:ext cx="2340000" cy="179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920" y="4869000"/>
                    <a:ext cx="23400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6372360" y="4797360"/>
          <a:ext cx="2232000" cy="1708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4797360"/>
                    <a:ext cx="22320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987640" y="4724280"/>
          <a:ext cx="2376360" cy="1819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87640" y="4724280"/>
                    <a:ext cx="237636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69080" y="472428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L26 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55840" y="13644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692280"/>
          <a:ext cx="2752560" cy="21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2752560" cy="21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211640" y="907920"/>
          <a:ext cx="2247840" cy="17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907920"/>
                    <a:ext cx="2247840" cy="17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643280" y="620640"/>
            <a:ext cx="127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te 4.2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p     4.10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0464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AR41  gate 7 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2360" y="29242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R62  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24000" y="3284640"/>
          <a:ext cx="2681280" cy="205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284640"/>
                    <a:ext cx="2681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900000" y="350028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ate 4.3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ap 4.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047840" y="651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0920" y="549360"/>
          <a:ext cx="20322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549360"/>
                    <a:ext cx="20322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50920" y="404640"/>
          <a:ext cx="187308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04640"/>
                    <a:ext cx="1873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57080" y="260280"/>
            <a:ext cx="108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Times New Roman"/>
              </a:rPr>
              <a:t>AR41  gate 7 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2905200"/>
          <a:ext cx="2158920" cy="16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905200"/>
                    <a:ext cx="2158920" cy="16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132000" y="2781360"/>
          <a:ext cx="2305080" cy="17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2781360"/>
                    <a:ext cx="23050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69440" y="24922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AR62  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5480" y="692280"/>
            <a:ext cx="115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4.26157 -0.129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65840" y="321300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9.41649-0.0786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2000" y="515772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BL26  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03:11:57Z</dcterms:created>
  <dc:creator>probe</dc:creator>
  <dc:description/>
  <dc:language>en-US</dc:language>
  <cp:lastModifiedBy>probe</cp:lastModifiedBy>
  <dcterms:modified xsi:type="dcterms:W3CDTF">2018-04-02T16:52:16Z</dcterms:modified>
  <cp:revision>5</cp:revision>
  <dc:subject/>
  <dc:title>PowerPoint Presentation</dc:title>
</cp:coreProperties>
</file>