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B27-E291-4731-9AAA-5991737F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F3B-DA2A-4C2D-A2FA-A1386FAE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D6A-C195-45C4-B1B7-D8318CD2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4BF-3B6A-4E7A-AE25-3048ABE7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4FB-8190-4607-B3B7-4EFFF66A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CFD-BD28-4927-AE70-4E7857EC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F81-D817-40C6-89F6-A0377601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720-499A-4C2D-88CA-B7A58915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DE9A-055B-466C-B1C2-7EA19C19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03A-8853-469B-81E7-14C300A1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3C9-CEF0-40ED-ABA3-B67F83C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3FC-3B95-48D0-878E-A296DF3A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CB98-BB48-4091-AE07-48C7F7D4265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30040" y="115920"/>
            <a:ext cx="144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(2.5):FeB(1.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lt54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20  gate -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1557360"/>
          <a:ext cx="288144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288144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492360" y="1557360"/>
          <a:ext cx="280836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1557360"/>
                    <a:ext cx="28083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443640" y="1628640"/>
          <a:ext cx="2448000" cy="187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1628640"/>
                    <a:ext cx="244800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96920" y="431316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=0.89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8360" y="1700280"/>
          <a:ext cx="303984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303984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830040" y="115920"/>
            <a:ext cx="144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(2.5):FeB(1.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lt54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20  gate +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76720" y="1773360"/>
          <a:ext cx="3112920" cy="23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773360"/>
                    <a:ext cx="311292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6156360" y="1916280"/>
          <a:ext cx="2824200" cy="21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1916280"/>
                    <a:ext cx="28242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636720" y="501336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=0.8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30040" y="115920"/>
            <a:ext cx="144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(2.5):FeB(1.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lt54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20  VC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611440" y="1928880"/>
          <a:ext cx="392112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1440" y="1928880"/>
                    <a:ext cx="392112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20:56:22Z</dcterms:created>
  <dc:creator>probe</dc:creator>
  <dc:description/>
  <dc:language>en-US</dc:language>
  <cp:lastModifiedBy>probe</cp:lastModifiedBy>
  <dcterms:modified xsi:type="dcterms:W3CDTF">2019-01-22T21:36:16Z</dcterms:modified>
  <cp:revision>2</cp:revision>
  <dc:subject/>
  <dc:title>PowerPoint Presentation</dc:title>
</cp:coreProperties>
</file>