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8E4-6D34-47F5-A3EC-16FFDFB5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D8E-266E-4AC5-B292-3519211F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AB9-EAE1-4DDD-8C2D-BBB133BD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BD6-0051-4583-B697-35C57835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FB8-3090-4C7D-8845-5FD1A55D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C34-316A-4C07-9D42-B7D9485D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935-0148-413C-82CB-D995B72C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3D4-49AA-4BC9-B210-9F55C021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895-AB5F-4663-BCAA-FAB85025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AF3-C8C3-4B34-8773-B115C4F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70A-4130-42C8-A464-9DFC156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38E-5D7B-4C98-831F-13AF1A85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8BDF-7E5A-49D8-9E1C-6BFC880AF5E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708280"/>
            <a:ext cx="127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ud 40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1000x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230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3284640"/>
          <a:ext cx="2320920" cy="17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84640"/>
                    <a:ext cx="23209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64000" y="3429000"/>
          <a:ext cx="246564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24656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580000" y="2852640"/>
            <a:ext cx="127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d45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100 x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7232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08960" y="28116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measure. very 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411280" y="836640"/>
          <a:ext cx="2681280" cy="20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836640"/>
                    <a:ext cx="2681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700360" y="6206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ud 94  1000xha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2827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6T01:48:24Z</dcterms:created>
  <dc:creator>probe</dc:creator>
  <dc:description/>
  <dc:language>en-US</dc:language>
  <cp:lastModifiedBy>probe</cp:lastModifiedBy>
  <dcterms:modified xsi:type="dcterms:W3CDTF">2018-03-25T05:35:44Z</dcterms:modified>
  <cp:revision>2</cp:revision>
  <dc:subject/>
  <dc:title>PowerPoint Presentation</dc:title>
</cp:coreProperties>
</file>