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641-898C-4D3D-B0B8-3D9BA23C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2FD-0EE8-47D8-804F-9296E42F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FC2-B8C2-4E65-8741-507518AA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53B-B0F7-47F9-8647-200E04DB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4C0-032D-4F74-BB29-E063E93C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285-1639-48F8-858F-30D0C449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027-64D5-4641-9BB9-7D3A8780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F5F-A65F-4B35-823F-8172DEC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83F-ED7D-4523-B567-8DD1270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8CF-9996-4770-92BC-646CF29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F43-4C3E-4ED5-923A-0BBA2D4C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220-AA02-4984-9F58-DD30060F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1747-4CA1-42FE-BB24-D559A2B271F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476280"/>
          <a:ext cx="2176560" cy="16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21765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95280" y="2565360"/>
          <a:ext cx="201600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565360"/>
                    <a:ext cx="201600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50920" y="4508640"/>
          <a:ext cx="2465280" cy="18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4508640"/>
                    <a:ext cx="24652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01800" y="18900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ud 47   400x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132000" y="404640"/>
          <a:ext cx="2176560" cy="166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04640"/>
                    <a:ext cx="21765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916360" y="4508640"/>
          <a:ext cx="2536560" cy="194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4508640"/>
                    <a:ext cx="253656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132000" y="2205000"/>
          <a:ext cx="2248200" cy="171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2205000"/>
                    <a:ext cx="224820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565800" y="11592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ud 40  1000 nm x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2T19:53:21Z</dcterms:created>
  <dc:creator>probe</dc:creator>
  <dc:description/>
  <dc:language>en-US</dc:language>
  <cp:lastModifiedBy>probe</cp:lastModifiedBy>
  <dcterms:modified xsi:type="dcterms:W3CDTF">2019-03-22T20:01:07Z</dcterms:modified>
  <cp:revision>2</cp:revision>
  <dc:subject/>
  <dc:title>PowerPoint Presentation</dc:title>
</cp:coreProperties>
</file>