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F0D-8F33-4210-9ABC-5C910097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8F0-964F-4341-AE75-3614ACD8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31E-B5C1-47DD-9567-B860717E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339-CD2C-4953-BB7D-8470998E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12A-B123-4BDE-960B-09123597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677-733B-4B04-A518-8304E227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FA9-7C56-48D0-9E6D-340812AD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56F-3B84-4F0C-9B76-4B6B9108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5A1-9C2A-4362-BEF1-6213A556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AFB-2BE5-4157-97C8-A965CF42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337-35AF-4FA9-83C4-561759A0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FAC-CC19-4C5C-9FD8-27C5DAE0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A050-0473-45D3-8F12-04588903DF5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333360"/>
          <a:ext cx="210492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210492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0" y="1916280"/>
          <a:ext cx="230508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16280"/>
                    <a:ext cx="230508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23280" y="18900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free 29  400 n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160" y="3645000"/>
            <a:ext cx="23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sp=0.57  Hpump=1.5  linear=1.5  Hall=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771640" y="260280"/>
          <a:ext cx="2176560" cy="16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260280"/>
                    <a:ext cx="217656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556000" y="1989000"/>
          <a:ext cx="2592360" cy="198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6000" y="1989000"/>
                    <a:ext cx="259236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204720" y="115920"/>
            <a:ext cx="50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free 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68760" y="3933720"/>
            <a:ext cx="261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sp=0.712   Hpump=1.01    linear=1.5   Hall 3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5T18:28:44Z</dcterms:created>
  <dc:creator>probe</dc:creator>
  <dc:description/>
  <dc:language>en-US</dc:language>
  <cp:lastModifiedBy>probe</cp:lastModifiedBy>
  <dcterms:modified xsi:type="dcterms:W3CDTF">2019-05-15T18:59:57Z</dcterms:modified>
  <cp:revision>1</cp:revision>
  <dc:subject/>
  <dc:title>PowerPoint Presentation</dc:title>
</cp:coreProperties>
</file>