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777-BE7F-4AB3-AC75-C588A885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BBA-0A44-4FC8-B953-8E639A12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B54-3D1D-4A14-846F-48667C5A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8C9-0337-4810-AEB6-202DA70C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7B2-45B9-4154-8C73-F4EA5A40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D71-F68E-400C-A836-9ADC46C2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E56-60A3-43AA-87BE-6F331A53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561-2A8E-4B72-9982-D769B0F2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3E3-AA19-4555-A4A6-DDC20B27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9EE-C83B-4C2A-8221-C5B03D8C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970-3A44-45AA-A6FE-443F80FA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6A5-4C1D-4EF4-BBB0-5BD411B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CF6A-C611-4475-9EF9-7A3D7F6549A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1120" y="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0:42:34Z</dcterms:created>
  <dc:creator>probe</dc:creator>
  <dc:description/>
  <dc:language>en-US</dc:language>
  <cp:lastModifiedBy>probe</cp:lastModifiedBy>
  <dcterms:modified xsi:type="dcterms:W3CDTF">2019-03-15T00:51:04Z</dcterms:modified>
  <cp:revision>1</cp:revision>
  <dc:subject/>
  <dc:title>PowerPoint Presentation</dc:title>
</cp:coreProperties>
</file>