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5D5-A27A-488B-A8AC-18CC36B8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6FF-4122-447C-AB6A-28ECC30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69A-1882-4B82-8EE7-10F88ADD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451-A591-485B-B53C-6D8F903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3C5-98DA-4B00-9FCC-4082277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F0D-70C1-411F-9A1B-17F0028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E35-3AAF-4E11-A2BB-1318B5D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E30-5C1C-45CA-ABE2-4F06D83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0DA-8EB2-4856-B4DB-6C44C9F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7A1-8399-4255-BD57-F765B0D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BC1-E4D7-4A40-BBAB-8FFAE04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CC-E6A2-48CF-A17C-C80D0B6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F7F-BF52-4935-9003-322D5DB6FAA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620640"/>
          <a:ext cx="2247840" cy="17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87120" y="-64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mp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492280"/>
          <a:ext cx="237636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2376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27640" y="33336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4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59280" y="692280"/>
          <a:ext cx="2376360" cy="181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692280"/>
                    <a:ext cx="2376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132000" y="2781360"/>
          <a:ext cx="2160720" cy="16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781360"/>
                    <a:ext cx="216072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709080" y="476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6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86040" y="-64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eld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2349360"/>
          <a:ext cx="2195640" cy="16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219564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0" y="333360"/>
          <a:ext cx="2664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266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00720" y="11592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4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987640" y="692280"/>
          <a:ext cx="2448000" cy="18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692280"/>
                    <a:ext cx="24480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16360" y="2565360"/>
          <a:ext cx="2232000" cy="170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256536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709080" y="476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6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53680" y="-792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in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260280"/>
          <a:ext cx="208728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20872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1989000"/>
          <a:ext cx="201600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9000"/>
                    <a:ext cx="201600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68360" y="404640"/>
          <a:ext cx="181620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04640"/>
                    <a:ext cx="181620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68360" y="1916280"/>
          <a:ext cx="2160720" cy="16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916280"/>
                    <a:ext cx="2160720" cy="16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00720" y="1890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4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2360" y="189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6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0:42:19Z</dcterms:created>
  <dc:creator>probe</dc:creator>
  <dc:description/>
  <dc:language>en-US</dc:language>
  <cp:lastModifiedBy>probe</cp:lastModifiedBy>
  <dcterms:modified xsi:type="dcterms:W3CDTF">2019-05-17T02:33:58Z</dcterms:modified>
  <cp:revision>3</cp:revision>
  <dc:subject/>
  <dc:title>PowerPoint Presentation</dc:title>
</cp:coreProperties>
</file>