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804-FE0A-40D3-BDEE-0D2ADBA8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03D-313A-488F-8962-44E46552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CBF1-C823-4C4F-B48F-89056D95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DA4-646D-4B5B-A72C-C849BAD0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F0EB-899B-4E77-B2FB-7D94B41F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A47-92D5-43A1-989D-ABC51C79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4E4E-CD64-412A-A1DD-D17CF390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6A52-A7F1-465C-BC6F-3DC38363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1A69-382B-46D6-850E-23DEF4C2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703E-08A0-4CFF-AAF7-A8B06C59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8D6-BA07-46CF-A63D-6A858B5F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A1A-B2AB-46F1-BC5B-53D8A727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DA90-2F8F-4A2E-A669-2F932787F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47440" y="88920"/>
            <a:ext cx="23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is vs gate 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533520"/>
          <a:ext cx="2743200" cy="20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274320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684720" y="297180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lt54a R2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800600" y="457200"/>
          <a:ext cx="2951280" cy="225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457200"/>
                    <a:ext cx="29512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5942520" y="2895480"/>
            <a:ext cx="125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lt54a L70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40600" y="88920"/>
            <a:ext cx="512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ce of VCMA (anisotropic field) on 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7000" y="294624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lt54a R2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28600" y="533520"/>
          <a:ext cx="3179880" cy="24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317988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334120" y="838080"/>
          <a:ext cx="2514600" cy="192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838080"/>
                    <a:ext cx="251460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6094800" y="2895480"/>
            <a:ext cx="125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lt54a L70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0880" y="380880"/>
          <a:ext cx="279900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279900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647080" y="88920"/>
            <a:ext cx="23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pe of Hanis vs H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1040" y="266688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lt54a R2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48320" y="533520"/>
          <a:ext cx="2570040" cy="19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533520"/>
                    <a:ext cx="2570040" cy="19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5790240" y="2743200"/>
            <a:ext cx="125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lt54a L70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643840" y="88920"/>
            <a:ext cx="35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 polarization vs gate 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720" y="15228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lt54a R2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3240" y="0"/>
            <a:ext cx="125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lt54a L70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886200" y="609480"/>
          <a:ext cx="2590920" cy="19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609480"/>
                    <a:ext cx="259092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6324480" y="4267080"/>
          <a:ext cx="2514600" cy="192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4267080"/>
                    <a:ext cx="251460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248520" y="380880"/>
          <a:ext cx="2743200" cy="209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380880"/>
                    <a:ext cx="2743200" cy="20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116760" y="2286000"/>
          <a:ext cx="3027240" cy="231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6760" y="2286000"/>
                    <a:ext cx="302724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7467120" y="68580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0.245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% 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0600" y="3733920"/>
            <a:ext cx="117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4.3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 mdeg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038480" y="2666880"/>
          <a:ext cx="2417760" cy="184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2666880"/>
                    <a:ext cx="241776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28600" y="228600"/>
          <a:ext cx="2722680" cy="2082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" y="228600"/>
                    <a:ext cx="272268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0" y="4724280"/>
          <a:ext cx="2549520" cy="1951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4724280"/>
                    <a:ext cx="254952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04920" y="2438280"/>
          <a:ext cx="2514600" cy="1924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4920" y="2438280"/>
                    <a:ext cx="251460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286000" y="4648320"/>
          <a:ext cx="2514600" cy="1925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86000" y="4648320"/>
                    <a:ext cx="251460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43840" y="88920"/>
            <a:ext cx="35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 polarization vs gate 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4920" y="609480"/>
          <a:ext cx="2722320" cy="20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272232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7400" y="380880"/>
            <a:ext cx="6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16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3520" y="2743200"/>
          <a:ext cx="2057400" cy="15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743200"/>
                    <a:ext cx="205740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3T09:44:17Z</dcterms:created>
  <dc:creator>volik</dc:creator>
  <dc:description/>
  <dc:language>en-US</dc:language>
  <cp:lastModifiedBy>probe</cp:lastModifiedBy>
  <dcterms:modified xsi:type="dcterms:W3CDTF">2019-03-18T19:28:43Z</dcterms:modified>
  <cp:revision>6</cp:revision>
  <dc:subject/>
  <dc:title>PowerPoint Presentation</dc:title>
</cp:coreProperties>
</file>