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256-FDA9-48D1-94FE-C5956462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5BC-AFAE-4C20-B844-4C4B9078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8EB-0026-4CAB-B91E-FEE1D4B0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504-A030-4217-83E3-A7642E76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410-51A4-4281-B13F-EBF1693C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805-DBA4-4333-90FC-064E385E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AB5-E268-485B-BCAE-DA356816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AB9-2861-43AA-94BF-806FAEEC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FED-2BC9-42AF-9182-45E2DDD8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124-DE21-46F4-81A8-D4AB8DC8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5C0-ED4B-4835-9340-AB420A08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BCA-D611-49B3-AB65-AC65351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905E-1109-4FF5-8214-C2AABCB1E51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60960" y="-6480"/>
            <a:ext cx="51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a(2.5)/FeB(1.1)/ MgO(6)/  Ta(1)/Ru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981000"/>
          <a:ext cx="2808360" cy="21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28083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356000" y="1125360"/>
          <a:ext cx="2608200" cy="19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2608200" cy="19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911480" y="642960"/>
            <a:ext cx="144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udL68 3 um x 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0.0620165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S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48360" y="1125360"/>
            <a:ext cx="171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5.08999-0.14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4.42613-0.139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3573360"/>
          <a:ext cx="2808000" cy="214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573360"/>
                    <a:ext cx="280800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55640" y="33577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R 26 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1480" y="3573360"/>
            <a:ext cx="67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0.06134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7440" y="407664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3.88302-0.121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88200" y="1364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125360"/>
          <a:ext cx="2247840" cy="17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224784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556000" y="981000"/>
          <a:ext cx="25192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981000"/>
                    <a:ext cx="25192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804000" y="476280"/>
          <a:ext cx="1871640" cy="14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476280"/>
                    <a:ext cx="187164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899640" y="836640"/>
            <a:ext cx="144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udL68 3 um x 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59280" y="1125360"/>
          <a:ext cx="2519280" cy="192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1125360"/>
                    <a:ext cx="25192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50920" y="3068640"/>
          <a:ext cx="2519280" cy="192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3068640"/>
                    <a:ext cx="25192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3640" y="3068640"/>
          <a:ext cx="2665440" cy="203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3068640"/>
                    <a:ext cx="266544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55640" y="299736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R 26 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59120" y="-6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620640"/>
          <a:ext cx="3240000" cy="24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20640"/>
                    <a:ext cx="32400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990520" y="1341360"/>
            <a:ext cx="103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unde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.35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n g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.6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99640" y="476280"/>
            <a:ext cx="144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udL48 3 um x 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4292640"/>
          <a:ext cx="266364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4292640"/>
                    <a:ext cx="26636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132000" y="4365720"/>
          <a:ext cx="2681280" cy="20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365720"/>
                    <a:ext cx="26812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755640" y="414972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under 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.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.3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50028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R 26 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01:15:11Z</dcterms:created>
  <dc:creator>probe</dc:creator>
  <dc:description/>
  <dc:language>en-US</dc:language>
  <cp:lastModifiedBy>probe</cp:lastModifiedBy>
  <dcterms:modified xsi:type="dcterms:W3CDTF">2018-03-14T19:29:05Z</dcterms:modified>
  <cp:revision>5</cp:revision>
  <dc:subject/>
  <dc:title>PowerPoint Presentation</dc:title>
</cp:coreProperties>
</file>