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2DF-2071-4041-80EE-9DA62E8F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CD9-AC7C-4282-9BF3-3BCDE55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769-4A05-4BB0-8505-DB90B705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873-3856-49F8-BCF6-B1FBB2B7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C3B-7B8D-4DD5-9EAB-E2001DC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084-7CDB-4649-9AD8-761B566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F53-F56E-4696-B89A-E90A3764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2F7-85BA-43BC-9191-08E3724E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E75-6A92-44FE-B358-1A572F1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9DC-167F-49E1-8D60-675F579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10A-BD39-41FF-BF59-6A7E2D9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047-EBAD-41E0-879D-E99E44F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94D9-9967-4D7F-9FE3-FAC3FA32F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7720" y="1522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in polarization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6920" y="2286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819520" y="874800"/>
          <a:ext cx="20574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874800"/>
                    <a:ext cx="20574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895480" y="2514600"/>
          <a:ext cx="2265480" cy="17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514600"/>
                    <a:ext cx="2265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01120" y="53352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g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72200" y="685800"/>
          <a:ext cx="2036880" cy="15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685800"/>
                    <a:ext cx="203688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783840" y="22860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457200"/>
          <a:ext cx="2514600" cy="192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"/>
                    <a:ext cx="2514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04920" y="2438280"/>
          <a:ext cx="2514600" cy="192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2438280"/>
                    <a:ext cx="2514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486400" y="25909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438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562720" y="2590920"/>
          <a:ext cx="1904760" cy="145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590920"/>
                    <a:ext cx="190476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848000" y="3733920"/>
            <a:ext cx="59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-0.001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259760" y="2819520"/>
          <a:ext cx="1884240" cy="1441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59760" y="2819520"/>
                    <a:ext cx="18842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774920" y="25909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52280" y="4419360"/>
            <a:ext cx="5410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4572000"/>
          <a:ext cx="2362320" cy="180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4572000"/>
                    <a:ext cx="236232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743200" y="4724280"/>
          <a:ext cx="2133720" cy="1633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43200" y="4724280"/>
                    <a:ext cx="213372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7640" y="63244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1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19880" y="15228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pump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6920" y="2286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505320" y="990720"/>
          <a:ext cx="18079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990720"/>
                    <a:ext cx="18079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886920" y="259092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g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380880"/>
          <a:ext cx="2438280" cy="186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243828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2286000"/>
          <a:ext cx="287496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286000"/>
                    <a:ext cx="287496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705720" y="304920"/>
          <a:ext cx="2057400" cy="15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04920"/>
                    <a:ext cx="20574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14400" y="5029200"/>
          <a:ext cx="1905120" cy="145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029200"/>
                    <a:ext cx="190512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6040" y="6400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971800" y="304920"/>
          <a:ext cx="2362320" cy="18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920"/>
                    <a:ext cx="236232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048120" y="2362320"/>
          <a:ext cx="2570040" cy="19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362320"/>
                    <a:ext cx="257004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658320" y="441972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g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8440" y="0"/>
            <a:ext cx="20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Hall 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228600"/>
          <a:ext cx="2514600" cy="192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28600"/>
                    <a:ext cx="2514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2133720"/>
          <a:ext cx="2646360" cy="202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133720"/>
                    <a:ext cx="264636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8600" y="4267080"/>
          <a:ext cx="2722680" cy="208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267080"/>
                    <a:ext cx="272268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77120" y="304920"/>
          <a:ext cx="2514600" cy="192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304920"/>
                    <a:ext cx="25146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394040" y="1522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19880" y="152280"/>
            <a:ext cx="16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n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762120"/>
          <a:ext cx="266688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266688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124080" y="990720"/>
            <a:ext cx="1067040" cy="380880"/>
          </a:xfrm>
          <a:prstGeom prst="wedgeRoundRectCallout">
            <a:avLst>
              <a:gd name="adj1" fmla="val -43518"/>
              <a:gd name="adj2" fmla="val 16583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slope is l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2971800"/>
          <a:ext cx="2286000" cy="17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971800"/>
                    <a:ext cx="228600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3520" y="4876920"/>
          <a:ext cx="241776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76920"/>
                    <a:ext cx="241776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16920" y="2286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105520" y="304920"/>
          <a:ext cx="2133360" cy="163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04920"/>
                    <a:ext cx="213336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05520" y="1981080"/>
          <a:ext cx="2057400" cy="157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1981080"/>
                    <a:ext cx="20574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962520" y="4343400"/>
          <a:ext cx="2133360" cy="163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4343400"/>
                    <a:ext cx="213336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345560" y="39625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781680" y="4572000"/>
          <a:ext cx="1981440" cy="151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4572000"/>
                    <a:ext cx="19814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4040" y="42670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17720" y="15228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Field-like torque  (0 d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09480"/>
          <a:ext cx="2666880" cy="20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666880" cy="20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4120" y="685800"/>
          <a:ext cx="241776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685800"/>
                    <a:ext cx="241776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916920" y="4572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50680" y="274320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3657600"/>
          <a:ext cx="2286000" cy="17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657600"/>
                    <a:ext cx="228600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57200" y="5486400"/>
          <a:ext cx="1600200" cy="12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486400"/>
                    <a:ext cx="1600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12000" y="33526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8120" y="3733920"/>
          <a:ext cx="2036520" cy="155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3733920"/>
                    <a:ext cx="203652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279240" y="34290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8120" y="5342040"/>
          <a:ext cx="1981080" cy="1515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5342040"/>
                    <a:ext cx="198108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3520" y="990720"/>
          <a:ext cx="234144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234144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818080" y="1522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Damp-like torque  (90 d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6920" y="685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7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5334120"/>
          <a:ext cx="182880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5334120"/>
                    <a:ext cx="18288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28600" y="4010040"/>
          <a:ext cx="2133720" cy="16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010040"/>
                    <a:ext cx="213372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88320" y="37339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971800" y="4038480"/>
          <a:ext cx="2057400" cy="15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4038480"/>
                    <a:ext cx="20574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200400" y="5634000"/>
          <a:ext cx="1600200" cy="122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5634000"/>
                    <a:ext cx="1600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279240" y="36576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54a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4T13:04:00Z</dcterms:created>
  <dc:creator>volik</dc:creator>
  <dc:description/>
  <dc:language>en-US</dc:language>
  <cp:lastModifiedBy>probe</cp:lastModifiedBy>
  <dcterms:modified xsi:type="dcterms:W3CDTF">2019-03-18T21:10:44Z</dcterms:modified>
  <cp:revision>8</cp:revision>
  <dc:subject/>
  <dc:title>PowerPoint Presentation</dc:title>
</cp:coreProperties>
</file>