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794A-F63F-4531-AF9E-C659F3B93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4573-635D-462E-A2D7-4296F98C2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3D72-15B5-4037-A0A4-F5CBA2555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BC02-2B7D-4513-B367-8D3D659EF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06FA-9AF0-4FEC-A11F-1D692A67F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4D19-2E32-4D6B-B85B-1F1B00B17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9E33-EDBC-469E-826E-991C60E65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B344-E94E-4F85-9A92-2562E2544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1EED-F9D9-413B-840D-61ECF41C9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8074-4F3C-440A-9A8C-3C0298B5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9484-B924-408A-89D1-07FECE5D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16CA-DA80-4B85-B8F5-2EB17D39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2EE52-36DE-441E-B985-681B56A5DE08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1.wmf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1.wmf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0920" y="2131920"/>
          <a:ext cx="3184560" cy="24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131920"/>
                    <a:ext cx="3184560" cy="24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2987640" y="2058840"/>
          <a:ext cx="3113280" cy="238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058840"/>
                    <a:ext cx="3113280" cy="23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3830040" y="115920"/>
            <a:ext cx="144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a(2.5):FeB(1.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Volt54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70  gate +2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6175440" y="2133720"/>
          <a:ext cx="2968560" cy="22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5440" y="2133720"/>
                    <a:ext cx="2968560" cy="22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3781080" y="515772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p=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0.8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1844640"/>
          <a:ext cx="3184560" cy="24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44640"/>
                    <a:ext cx="3184560" cy="24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059280" y="1628640"/>
          <a:ext cx="3112920" cy="238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59280" y="1628640"/>
                    <a:ext cx="3112920" cy="23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6046920" y="1484280"/>
          <a:ext cx="3097080" cy="2370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46920" y="1484280"/>
                    <a:ext cx="3097080" cy="23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6084720" y="4292640"/>
          <a:ext cx="2808360" cy="2149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84720" y="4292640"/>
                    <a:ext cx="2808360" cy="21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3830040" y="115920"/>
            <a:ext cx="144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a(2.5):FeB(1.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Volt54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70  gate -1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44720" y="5300640"/>
            <a:ext cx="14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p=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0.82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2611440" y="1928880"/>
          <a:ext cx="3921120" cy="30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11440" y="1928880"/>
                    <a:ext cx="3921120" cy="30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3830040" y="115920"/>
            <a:ext cx="144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a(2.5):FeB(1.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Volt54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70  g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VC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08000" y="260280"/>
          <a:ext cx="2376360" cy="181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260280"/>
                    <a:ext cx="2376360" cy="18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2556000" y="404640"/>
          <a:ext cx="2247840" cy="171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56000" y="404640"/>
                    <a:ext cx="2247840" cy="17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4788000" y="189000"/>
          <a:ext cx="2735280" cy="2092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88000" y="189000"/>
                    <a:ext cx="2735280" cy="20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2484360" y="115920"/>
          <a:ext cx="3362400" cy="242640"/>
        </p:xfrm>
        <a:graphic>
          <a:graphicData uri="http://schemas.openxmlformats.org/drawingml/2006/table">
            <a:tbl>
              <a:tblPr/>
              <a:tblGrid>
                <a:gridCol w="1120680"/>
                <a:gridCol w="1121040"/>
                <a:gridCol w="112068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Sp=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Hpump=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1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Linear =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"/>
          <p:cNvSpPr/>
          <p:nvPr/>
        </p:nvSpPr>
        <p:spPr>
          <a:xfrm>
            <a:off x="758160" y="189000"/>
            <a:ext cx="105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t54a 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077240" y="0"/>
          <a:ext cx="2066760" cy="1581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77240" y="0"/>
                    <a:ext cx="2066760" cy="15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7164360" y="1844640"/>
          <a:ext cx="1800360" cy="1378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164360" y="1844640"/>
                    <a:ext cx="1800360" cy="13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760920" y="6516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16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324000" y="836640"/>
          <a:ext cx="2104920" cy="16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836640"/>
                    <a:ext cx="2104920" cy="16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2484360" y="692280"/>
          <a:ext cx="2320920" cy="177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692280"/>
                    <a:ext cx="2320920" cy="17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4788000" y="333360"/>
          <a:ext cx="27525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88000" y="333360"/>
                    <a:ext cx="27525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3616920" y="258444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700360" y="476280"/>
          <a:ext cx="3024000" cy="244440"/>
        </p:xfrm>
        <a:graphic>
          <a:graphicData uri="http://schemas.openxmlformats.org/drawingml/2006/table">
            <a:tbl>
              <a:tblPr/>
              <a:tblGrid>
                <a:gridCol w="1008000"/>
                <a:gridCol w="1008000"/>
                <a:gridCol w="100800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=0.75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pump=1.1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L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ear=1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6732720" y="404640"/>
          <a:ext cx="2608200" cy="1995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32720" y="404640"/>
                    <a:ext cx="2608200" cy="19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0" y="3068640"/>
          <a:ext cx="2536920" cy="1941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3068640"/>
                    <a:ext cx="2536920" cy="19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2340000" y="2852640"/>
          <a:ext cx="2897280" cy="2216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40000" y="2852640"/>
                    <a:ext cx="2897280" cy="22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4859280" y="3141720"/>
          <a:ext cx="2449440" cy="1873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859280" y="3141720"/>
                    <a:ext cx="2449440" cy="18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7089840" y="3213000"/>
          <a:ext cx="2054160" cy="1571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089840" y="3213000"/>
                    <a:ext cx="2054160" cy="15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069080" y="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16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24000" y="836640"/>
          <a:ext cx="2104920" cy="16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836640"/>
                    <a:ext cx="2104920" cy="16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2484360" y="692280"/>
          <a:ext cx="2320920" cy="177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692280"/>
                    <a:ext cx="2320920" cy="17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4788000" y="333360"/>
          <a:ext cx="27525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88000" y="333360"/>
                    <a:ext cx="27525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3616920" y="258444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627280" y="5445000"/>
          <a:ext cx="3024000" cy="244440"/>
        </p:xfrm>
        <a:graphic>
          <a:graphicData uri="http://schemas.openxmlformats.org/drawingml/2006/table">
            <a:tbl>
              <a:tblPr/>
              <a:tblGrid>
                <a:gridCol w="1008000"/>
                <a:gridCol w="1008000"/>
                <a:gridCol w="100800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=0.72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pump=0.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L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ear=0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6732720" y="404640"/>
          <a:ext cx="2608200" cy="1995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32720" y="404640"/>
                    <a:ext cx="2608200" cy="19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0" y="3068640"/>
          <a:ext cx="2536920" cy="1941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3068640"/>
                    <a:ext cx="2536920" cy="19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2340000" y="2852640"/>
          <a:ext cx="2897280" cy="2216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40000" y="2852640"/>
                    <a:ext cx="2897280" cy="22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4859280" y="3141720"/>
          <a:ext cx="2449440" cy="1873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859280" y="3141720"/>
                    <a:ext cx="2449440" cy="18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7089840" y="3213000"/>
          <a:ext cx="2054160" cy="1571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089840" y="3213000"/>
                    <a:ext cx="2054160" cy="15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611280" y="476280"/>
          <a:ext cx="3024000" cy="244440"/>
        </p:xfrm>
        <a:graphic>
          <a:graphicData uri="http://schemas.openxmlformats.org/drawingml/2006/table">
            <a:tbl>
              <a:tblPr/>
              <a:tblGrid>
                <a:gridCol w="1008000"/>
                <a:gridCol w="1008000"/>
                <a:gridCol w="100800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=0.75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pump=1.1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L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ear=1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19:44:13Z</dcterms:created>
  <dc:creator>probe</dc:creator>
  <dc:description/>
  <dc:language>en-US</dc:language>
  <cp:lastModifiedBy>probe</cp:lastModifiedBy>
  <dcterms:modified xsi:type="dcterms:W3CDTF">2019-03-18T19:43:51Z</dcterms:modified>
  <cp:revision>7</cp:revision>
  <dc:subject/>
  <dc:title>PowerPoint Presentation</dc:title>
</cp:coreProperties>
</file>